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A4BC-4DB2-4F2A-8647-09E2A85A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04D-D253-4D91-B914-CF97A5AF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236-4F18-4763-BD10-7BCD13B6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82B-BE80-4253-9D2F-05D2FC82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06C-A931-4043-A2C1-A263462A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E34-588A-45A0-8A87-C020B028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C22-2B5D-4894-A3D0-78095BF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0F0-D6D9-4828-8698-D1D945C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1B6-B88C-408E-A5FD-2BD3F4B9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6CA-65B6-4EFC-9813-CC31F65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32D-FE4E-4D85-A100-0DDCD791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52D-A557-476A-B9B0-3B6CA82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AF6-4E59-44E9-920A-3ED2CAE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DFE-86CA-424A-B160-CB4CF673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0EB-7DA7-419D-A492-07870DDA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ñ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á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é tal amiga y si yo voy con ustéd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é quieren jugar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quiere cosa. Amigas mi tengo que ir adios.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12Z</dcterms:modified>
  <cp:revision>111</cp:revision>
  <dc:subject/>
  <dc:title>Profile</dc:title>
</cp:coreProperties>
</file>